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2FA-96E2-408A-93D4-569AE9EE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447-4B9F-4F60-B543-6AAB5D04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C107A-38AC-45E2-A019-5790487B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23DD9-01B8-4750-8D2A-D67C027B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B33FF-F980-4AF3-AE92-3CB877D4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78E74-1AC6-42F1-B7AD-0C45EDB9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07692-4D30-46DA-BD38-01E35308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9F655-E12A-47F8-937E-8D631CF0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F579C-271A-4626-AABC-AF0FD967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561AA-A3D4-4D93-B2E3-FB11E079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75281-4685-431A-9354-D0DD866D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7DE3B-F332-418C-B8F2-83E6E93D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BAF-0095-40F2-9A2C-01D39E46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950AD-EEC7-4198-A99A-2DF7202D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768A4-F55C-4A8C-BAEB-F525DFF9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A7DCA-0AE3-460E-9C3F-CC9992A8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6287F-40FD-4CC2-890F-F8FA0416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FB7ED-5D5D-48DD-AB85-89657632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6AFEE-6DF5-4C02-AE78-908EE209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2CBB1-76BA-40AB-B14A-6D2D0AA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8BD5F-4E78-4C61-97C2-545DE55E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17692-EEFE-47F7-8F0A-F7644203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9695F-FBF2-4BCD-998E-48C46CCF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332-FD9A-48DA-A41A-AFD7BB84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AF158-3C2A-4044-96AB-EAE36DCD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9F47B-D219-464B-9091-021F8AD7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B3F6C-A28E-4726-9AF2-C3D3AE75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495B9-1D2C-4978-89EE-F426CA1B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ABCAD-0CA2-4859-A59C-2CA47154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3457B-3A60-4B78-9C25-2293F848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D647B-077E-48BC-A6BE-1DCFAD6C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0BFF2-D508-465D-88EF-C0B95C03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C0AF7-61AC-42B6-92CE-28694A6A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E48D7-4F0C-4545-BF9D-740B58D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7E0C-BB6A-4D3D-A1CF-AED2490A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2F894-1D5D-48AA-854A-CAB96C54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C218F-28F5-4D7A-B05F-835CE0B2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A6CBB-F760-42A5-9A55-1ABD88D2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6E33C-5D00-4840-88EB-8EC1688D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46FDE-FFC4-487E-B8C7-5D2C1A91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9BD6E-FB49-4C99-B239-8028316B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D78B3-2A86-41E5-96D2-E9AC45F6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09397-FAB9-4AFA-B892-E64839CA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9DCB3-C72F-40E0-AD2A-FE813FF2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912D5-F3B9-46EC-84AC-161C556A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7C80-416F-466A-9AA8-47DCF7C1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1572E-D88F-44B8-90C4-900457DD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F99D6-F3AE-4E18-98E5-14AC19BE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36556-76F2-4775-AC5C-FAAE893E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78997-8677-485E-A43A-9F992C5B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FD754-21DD-4204-8C9B-73C422E8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08DC-38AD-45F3-9CE1-A4F43B64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9BAC-5538-45F3-A7C8-98C77813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D711-CBC8-447E-AED6-BF432B72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648E-E8A6-44B0-87F5-84AE7562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A4ED-E3A5-445A-B7C8-CE17DA32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B31-C45C-42E2-8BE6-F642EBEA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486C-E819-44A0-9F85-6E4425B1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0585-CDE4-4AAE-8FB6-D4197ADD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C47E-5186-4217-83B4-2BCD5E1F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2183-2C4F-4E7C-AB61-CEE5C3A8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4070-C288-49F6-B72C-53FE2794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45D70-66CB-4195-9D29-295E62F3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F9B6-64E4-4DA4-8A94-725CDD88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3562B-C6F2-45CB-898D-07C39D5C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F16C6-87EA-4030-A8CD-CD48FB6D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35CA-67D2-409B-8319-45B0FFC0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CB9-B8C1-409A-B81A-17C0D0E6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BFE88-8E1D-464F-97E8-230772D2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B8ED-371E-40D6-A2AF-6CDF6DD0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A12B-8340-4EFE-B4F7-DADE51EF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28ED-01A7-49A6-B6D9-411162C4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7A7CD-B5A4-4BC8-A2C6-DDD4BF20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16B7-3240-46D5-9EC1-ACF6FF3B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DF72-EEF4-405F-9232-F28AFC54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BF498-4564-42FF-B842-4328495E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83AB-5316-43E9-BBC4-24335BD1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72C1-A1A5-4F26-952D-7DCBE4EB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B58-77CA-4ADF-BB60-374ECAAC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4C7B8-AC74-4D69-A961-E4148255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56CF-38CF-4527-915C-AA931859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0FB1-D60C-4A1F-949D-FDB58E73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98F11-901F-49DD-ABAB-6E77CF41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0DA49-B6E2-4BD2-8B69-ACC8C142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8BEE-2B97-423A-ABD1-7115BA3F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BFDC9-5166-45DE-BFC4-AFB02ED8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63468-FCAF-453F-A55B-66819DFC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5277-67E6-4E49-BE99-754AAFFE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8B3E3-DC53-49C5-BA88-ECD1FCED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26A-CD9D-46D6-971F-48E02228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0B7C-63FD-4BAB-92B2-23303266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3572A-78C9-4FEA-BEFA-36D9997D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753D9-611A-4FDC-B914-FEF91DFA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BDC30-57E3-4747-B69C-28A506BF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28838-EA92-442C-8DFC-A641734A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188B8-41FE-40AD-A2C2-094FD0F0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F2DA0-D209-4723-9C5A-5D5DCB40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F45FB-B434-482E-8C1A-B7750FDA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2C1C7-DC17-4BCC-A58E-BBF65BE1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47CE8-3E69-4BA8-993D-C506D634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0B4-B4A7-43E4-A48D-A0015FB0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D442-AC80-4708-9679-1675557C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EE715-1DC9-4A58-B872-0A774010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75CDD-7CA6-4755-B7B4-E61A782B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0C10F-59DB-4898-A826-5977012C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E9849-EB9A-4A4A-9915-841377E3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D09F1-8ACD-4FEE-A4CF-75D1682C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ED98C-A4C9-4BFD-96BC-B21868CD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4C89-5A8E-44A0-9A16-85594859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44EDE-83C1-466B-B256-335D18DF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8BD09-D4EA-4DBF-B6CE-87393108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C95-C556-4166-AB21-06500165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6B741-DEEA-45B9-A496-F6A49677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1F935-6827-4534-8913-DD75D06B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362BB-E005-41DA-BE21-BAC7E16F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962C8-F598-42EA-BC47-0B6DAE5E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05504-9C05-433A-A4C6-B332423E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E3500-6FB8-4B0B-B08B-0E471B5D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3975F-ED89-4F6B-B8F0-EF92358A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4EB3-D1DD-4F72-BBB4-754C9111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70F09-2DD4-4B41-97DF-EA96EC26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5DF2A-9067-44A0-9B33-9DB6E577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ED2-A429-4102-8A97-2A9AEBAC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0CC52-F5BD-4437-8E39-8AE3C698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6E714-9FCE-4CCE-A549-E30C97A3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44AAD-7FB3-45CB-941F-337DB406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13EE7-DD29-493B-A0BF-86E85CC8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72050-FA27-414E-A203-F78FC13F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00C56-5932-49CE-AE70-A0E2FE44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7E1FD-0818-45A9-8429-A3506D5B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2E36F-95C2-4945-ACBA-8A519AF9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81978-79D8-4451-9D63-68B74715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382CF-6AD1-4C8A-9223-3C32F774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BDB-1B19-45D3-AEB8-CFBFEB2A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DD870-325C-4EF6-92CF-AB369182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31262-609A-40C6-9DAB-D9275165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81DD0-D689-4280-96EE-16AB6B0D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CABF3-27A0-4283-9CC5-832A3A60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1763E-78A1-49CF-A86E-0958C3AE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41900-A916-4947-A1D6-1806A7B2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BB3DA-CBD8-42E9-87FD-A32D0E5E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5CE50-DDA0-4C6F-8875-8C7D9EDB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42DBF-4075-4D02-93EC-97E8D3F9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F2612-10B4-41F9-8DB8-B8666F65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4D7C-9962-4CE4-8C49-F454DF102B0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4372-6561-4776-AC25-88755902BC1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C66D-F679-4AF9-B9A1-B5E2407AE07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AB2-9D85-48A4-992E-4CD27B683E9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DCDC-7C65-4D59-834E-A792B8D86FD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4F21-B363-403E-B277-51FD4B4AFA9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8C30-E4FC-4B03-A5ED-77D6BE05CD6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FCE9-2833-48EC-9E0A-8D45E3B292B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2664-89D9-411D-AFB4-CE5D346A603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D81A-8F11-4B8C-964D-7BD7963DF47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696B-DB1F-4A1F-AF22-AFE32BC28F56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A385-D3E1-442C-9F4E-D3D5161C643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6b86"/>
                </a:solidFill>
                <a:latin typeface="Georgia"/>
              </a:rPr>
              <a:t>TWO SIDES TO THE SAME ARGU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The Big Debat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Summary of 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evidence is found in ice-core samples, dating back 650,0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It shows that when Carbon Dioxide levels increase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no disagreement between scientists, only in the popular press that Carbon Dioxide is linked to climat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at Global Warming Swind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4" descr="images.jpg"/>
          <p:cNvPicPr/>
          <p:nvPr/>
        </p:nvPicPr>
        <p:blipFill>
          <a:blip r:embed="rId1"/>
          <a:stretch/>
        </p:blipFill>
        <p:spPr>
          <a:xfrm>
            <a:off x="642960" y="1571760"/>
            <a:ext cx="3286080" cy="45939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is theory states that: 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louds and Cosmic Ra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GGWS clouds &amp; cosmic rays cartoon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global warming by solar activity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GGWS Temp vs Solar Activity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rbon Dioxide Lags Tempera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GGWS CO2 lags temp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O2 and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GGWS Temp vs CO2 and Solar Activity.wmv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8858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9899"/>
                </a:solidFill>
                <a:latin typeface="Georgia"/>
              </a:rPr>
              <a:t>Summary of the Great Global Warming Swindle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hen solar activity is high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ice-core records show that Carbon Dioxide lags temperature by 8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a direct relationship between temperature change and solar activity, but no real relationship between carbon dioxide and temperatur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Why are we doing thi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Scientists do not always have the answers, and scientific data can be interpreted in a number of wa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a hotly debated topic, taking up many column inches every year in the popular press and in scientific journals, but there seems to be a disagreement about the fac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e are going to look at two arguments made on the causes of global warming, and see if we can make our own minds up on what one to believ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Ongoing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Throughout these video clips, make notes on the worksheet provided of anything you feel is relevant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4" descr="An-Inconvenient-Truth-HavenWorks-com-tv-blog.jpg"/>
          <p:cNvPicPr/>
          <p:nvPr/>
        </p:nvPicPr>
        <p:blipFill>
          <a:blip r:embed="rId1"/>
          <a:stretch/>
        </p:blipFill>
        <p:spPr>
          <a:xfrm>
            <a:off x="214200" y="1428840"/>
            <a:ext cx="4000680" cy="4681440"/>
          </a:xfrm>
          <a:prstGeom prst="rect">
            <a:avLst/>
          </a:prstGeom>
          <a:ln w="0">
            <a:noFill/>
          </a:ln>
        </p:spPr>
      </p:pic>
      <p:pic>
        <p:nvPicPr>
          <p:cNvPr id="614" name="Content Placeholder 5" descr="center_image.jpg"/>
          <p:cNvPicPr/>
          <p:nvPr/>
        </p:nvPicPr>
        <p:blipFill>
          <a:blip r:embed="rId2"/>
          <a:stretch/>
        </p:blipFill>
        <p:spPr>
          <a:xfrm>
            <a:off x="5105520" y="1428840"/>
            <a:ext cx="3824280" cy="4643280"/>
          </a:xfrm>
          <a:prstGeom prst="rect">
            <a:avLst/>
          </a:prstGeom>
          <a:ln w="0">
            <a:noFill/>
          </a:ln>
        </p:spPr>
      </p:pic>
      <p:pic>
        <p:nvPicPr>
          <p:cNvPr id="615" name="Rectangle 6" descr=""/>
          <p:cNvPicPr/>
          <p:nvPr/>
        </p:nvPicPr>
        <p:blipFill>
          <a:blip r:embed="rId3"/>
          <a:stretch/>
        </p:blipFill>
        <p:spPr>
          <a:xfrm>
            <a:off x="3773520" y="2895480"/>
            <a:ext cx="1768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Content Placeholder 4" descr="enviro%20gore.jpg"/>
          <p:cNvPicPr/>
          <p:nvPr/>
        </p:nvPicPr>
        <p:blipFill>
          <a:blip r:embed="rId1"/>
          <a:stretch/>
        </p:blipFill>
        <p:spPr>
          <a:xfrm>
            <a:off x="608040" y="1517760"/>
            <a:ext cx="3425760" cy="43894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theory put forward by the former vice president of the USA, Al Gore, states that:-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enhouse Ef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AIT Greenhouse effect and cartoon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the theory of man-made global warming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arbon Diox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AIT Temp vs CO2 from ice core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Disagreement Amongst Scientist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AIT disagreement amongst scientist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9:13:42Z</dcterms:created>
  <dc:creator>Greenfaulds High</dc:creator>
  <dc:description/>
  <dc:language>en-US</dc:language>
  <cp:lastModifiedBy>Stephen Day</cp:lastModifiedBy>
  <dcterms:modified xsi:type="dcterms:W3CDTF">2009-08-25T08:00:22Z</dcterms:modified>
  <cp:revision>8</cp:revision>
  <dc:subject/>
  <dc:title>The Big Debate</dc:title>
</cp:coreProperties>
</file>